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836-50DC-4AFA-A147-2A81FF93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A4A-E795-42A0-9DF2-028046A3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8B0-A662-4E7B-95A4-A607814C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535-1A18-463D-ADA4-C6A2DF93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C9F-3D94-416E-B341-F7B3C792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8971-D23F-4A85-A901-7628214C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00E-6AEE-4723-AFD4-A7BCDC58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DBB-272C-4021-B77A-0E931135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119-84C8-42AA-B46A-38985293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912-7D81-475D-A1E5-391E4A61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1BF-964D-4F73-B9AA-ACF48AC6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6DD-D357-497E-B663-8CA6A1F2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1BEE-6C76-45D9-BB37-8F620A3FD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-73080" y="1870200"/>
            <a:ext cx="929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.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特殊的中心对称图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510680" y="500040"/>
            <a:ext cx="14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八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下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97852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74640" y="1429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如图，在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① 若∠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5292720" y="2060640"/>
            <a:ext cx="2736360" cy="1618920"/>
            <a:chOff x="5292720" y="2060640"/>
            <a:chExt cx="2736360" cy="1618920"/>
          </a:xfrm>
        </p:grpSpPr>
        <p:sp>
          <p:nvSpPr>
            <p:cNvPr id="146" name="AutoShape 5"/>
            <p:cNvSpPr/>
            <p:nvPr/>
          </p:nvSpPr>
          <p:spPr>
            <a:xfrm>
              <a:off x="5572440" y="2484360"/>
              <a:ext cx="1902960" cy="720000"/>
            </a:xfrm>
            <a:prstGeom prst="parallelogram">
              <a:avLst>
                <a:gd name="adj" fmla="val 6607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5292720" y="3105000"/>
              <a:ext cx="5706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5874840" y="2060640"/>
              <a:ext cx="57096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7458480" y="2132280"/>
              <a:ext cx="5706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9"/>
            <p:cNvSpPr/>
            <p:nvPr/>
          </p:nvSpPr>
          <p:spPr>
            <a:xfrm>
              <a:off x="6751440" y="3139560"/>
              <a:ext cx="5706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5"/>
          <p:cNvSpPr/>
          <p:nvPr/>
        </p:nvSpPr>
        <p:spPr>
          <a:xfrm>
            <a:off x="826920" y="189000"/>
            <a:ext cx="42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9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平行四边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684360" y="8110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块三、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790560" y="3768840"/>
            <a:ext cx="66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平行四边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周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，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=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，那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C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D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A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24590"/>
          <p:cNvGrpSpPr/>
          <p:nvPr/>
        </p:nvGrpSpPr>
        <p:grpSpPr>
          <a:xfrm>
            <a:off x="5075280" y="4870440"/>
            <a:ext cx="3254400" cy="971640"/>
            <a:chOff x="5075280" y="4870440"/>
            <a:chExt cx="3254400" cy="971640"/>
          </a:xfrm>
        </p:grpSpPr>
        <p:pic>
          <p:nvPicPr>
            <p:cNvPr id="155" name="图片 24588" descr=""/>
            <p:cNvPicPr/>
            <p:nvPr/>
          </p:nvPicPr>
          <p:blipFill>
            <a:blip r:embed="rId1"/>
            <a:stretch/>
          </p:blipFill>
          <p:spPr>
            <a:xfrm>
              <a:off x="5075280" y="4870440"/>
              <a:ext cx="325440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文本框 24589"/>
            <p:cNvSpPr/>
            <p:nvPr/>
          </p:nvSpPr>
          <p:spPr>
            <a:xfrm>
              <a:off x="6369480" y="5340240"/>
              <a:ext cx="5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7"/>
          <p:cNvSpPr/>
          <p:nvPr/>
        </p:nvSpPr>
        <p:spPr>
          <a:xfrm>
            <a:off x="900000" y="126828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在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如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C=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D=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C=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，则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O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周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>
            <a:off x="4357800" y="2682720"/>
            <a:ext cx="2438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7"/>
          <p:cNvGrpSpPr/>
          <p:nvPr/>
        </p:nvGrpSpPr>
        <p:grpSpPr>
          <a:xfrm>
            <a:off x="5076720" y="3141720"/>
            <a:ext cx="3240360" cy="2231640"/>
            <a:chOff x="5076720" y="3141720"/>
            <a:chExt cx="3240360" cy="2231640"/>
          </a:xfrm>
        </p:grpSpPr>
        <p:grpSp>
          <p:nvGrpSpPr>
            <p:cNvPr id="160" name="Group 8"/>
            <p:cNvGrpSpPr/>
            <p:nvPr/>
          </p:nvGrpSpPr>
          <p:grpSpPr>
            <a:xfrm>
              <a:off x="5453280" y="3481920"/>
              <a:ext cx="2404080" cy="1556640"/>
              <a:chOff x="5453280" y="3481920"/>
              <a:chExt cx="2404080" cy="1556640"/>
            </a:xfrm>
          </p:grpSpPr>
          <p:sp>
            <p:nvSpPr>
              <p:cNvPr id="161" name="AutoShape 9"/>
              <p:cNvSpPr/>
              <p:nvPr/>
            </p:nvSpPr>
            <p:spPr>
              <a:xfrm rot="10800000">
                <a:off x="5453280" y="3481920"/>
                <a:ext cx="2404080" cy="1556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10"/>
              <p:cNvSpPr/>
              <p:nvPr/>
            </p:nvSpPr>
            <p:spPr>
              <a:xfrm>
                <a:off x="6162120" y="3481920"/>
                <a:ext cx="1008000" cy="934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11"/>
            <p:cNvSpPr/>
            <p:nvPr/>
          </p:nvSpPr>
          <p:spPr>
            <a:xfrm>
              <a:off x="6526800" y="317160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5797080" y="422388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7081920" y="426096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6627600" y="490680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>
              <a:off x="7851960" y="314172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5076720" y="3327120"/>
              <a:ext cx="4651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5"/>
          <p:cNvSpPr/>
          <p:nvPr/>
        </p:nvSpPr>
        <p:spPr>
          <a:xfrm>
            <a:off x="826920" y="189000"/>
            <a:ext cx="42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9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平行四边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"/>
          <p:cNvSpPr/>
          <p:nvPr/>
        </p:nvSpPr>
        <p:spPr>
          <a:xfrm>
            <a:off x="971640" y="12621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已知：如图，点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在△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EF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各边上，且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/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F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是△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EF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边的中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842400" y="1412280"/>
            <a:ext cx="7932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如图，在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O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则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的性质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它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图形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是它的对称中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5451480" y="2557440"/>
            <a:ext cx="2365200" cy="14652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1528560" y="2253960"/>
            <a:ext cx="28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边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角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对角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6"/>
          <p:cNvSpPr/>
          <p:nvPr/>
        </p:nvSpPr>
        <p:spPr>
          <a:xfrm>
            <a:off x="804960" y="692280"/>
            <a:ext cx="22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块四、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173600" y="1401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2206440"/>
            <a:ext cx="813600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如图：</a:t>
            </a:r>
            <a:r>
              <a:rPr b="0" i="1" lang="zh-CN" sz="20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0" i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ABC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的周长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由钝角顶点</a:t>
            </a:r>
            <a:r>
              <a:rPr b="0" i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向</a:t>
            </a:r>
            <a:r>
              <a:rPr b="0" i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B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引两条高</a:t>
            </a:r>
            <a:r>
              <a:rPr b="0" i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D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i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D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且</a:t>
            </a:r>
            <a:r>
              <a:rPr b="0" i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DE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en-US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DF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，求这个平行四边形的面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5219640" y="3084480"/>
            <a:ext cx="2449440" cy="1917720"/>
            <a:chOff x="5219640" y="3084480"/>
            <a:chExt cx="2449440" cy="1917720"/>
          </a:xfrm>
        </p:grpSpPr>
        <p:sp>
          <p:nvSpPr>
            <p:cNvPr id="178" name="Text Box 22"/>
            <p:cNvSpPr/>
            <p:nvPr/>
          </p:nvSpPr>
          <p:spPr>
            <a:xfrm>
              <a:off x="5781600" y="4463640"/>
              <a:ext cx="32112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5"/>
            <p:cNvSpPr/>
            <p:nvPr/>
          </p:nvSpPr>
          <p:spPr>
            <a:xfrm>
              <a:off x="7347600" y="3183120"/>
              <a:ext cx="3214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10"/>
            <p:cNvGrpSpPr/>
            <p:nvPr/>
          </p:nvGrpSpPr>
          <p:grpSpPr>
            <a:xfrm>
              <a:off x="5219640" y="3084480"/>
              <a:ext cx="2369520" cy="1915200"/>
              <a:chOff x="5219640" y="3084480"/>
              <a:chExt cx="2369520" cy="1915200"/>
            </a:xfrm>
          </p:grpSpPr>
          <p:sp>
            <p:nvSpPr>
              <p:cNvPr id="181" name="Text Box 23"/>
              <p:cNvSpPr/>
              <p:nvPr/>
            </p:nvSpPr>
            <p:spPr>
              <a:xfrm>
                <a:off x="6744960" y="4461840"/>
                <a:ext cx="401400" cy="5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24"/>
              <p:cNvSpPr/>
              <p:nvPr/>
            </p:nvSpPr>
            <p:spPr>
              <a:xfrm>
                <a:off x="7187400" y="3823200"/>
                <a:ext cx="40176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3"/>
              <p:cNvGrpSpPr/>
              <p:nvPr/>
            </p:nvGrpSpPr>
            <p:grpSpPr>
              <a:xfrm>
                <a:off x="5219640" y="3084480"/>
                <a:ext cx="2127960" cy="1866240"/>
                <a:chOff x="5219640" y="3084480"/>
                <a:chExt cx="2127960" cy="1866240"/>
              </a:xfrm>
            </p:grpSpPr>
            <p:sp>
              <p:nvSpPr>
                <p:cNvPr id="184" name="Text Box 21"/>
                <p:cNvSpPr/>
                <p:nvPr/>
              </p:nvSpPr>
              <p:spPr>
                <a:xfrm>
                  <a:off x="5219640" y="4413240"/>
                  <a:ext cx="401760" cy="53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Group 15"/>
                <p:cNvGrpSpPr/>
                <p:nvPr/>
              </p:nvGrpSpPr>
              <p:grpSpPr>
                <a:xfrm>
                  <a:off x="5501160" y="3084480"/>
                  <a:ext cx="1846440" cy="1427040"/>
                  <a:chOff x="5501160" y="3084480"/>
                  <a:chExt cx="1846440" cy="1427040"/>
                </a:xfrm>
              </p:grpSpPr>
              <p:sp>
                <p:nvSpPr>
                  <p:cNvPr id="186" name="AutoShape 15"/>
                  <p:cNvSpPr/>
                  <p:nvPr/>
                </p:nvSpPr>
                <p:spPr>
                  <a:xfrm>
                    <a:off x="5501160" y="3380040"/>
                    <a:ext cx="1846440" cy="1131480"/>
                  </a:xfrm>
                  <a:prstGeom prst="parallelogram">
                    <a:avLst>
                      <a:gd name="adj" fmla="val 40797"/>
                    </a:avLst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6"/>
                  <p:cNvSpPr/>
                  <p:nvPr/>
                </p:nvSpPr>
                <p:spPr>
                  <a:xfrm>
                    <a:off x="5982480" y="3380040"/>
                    <a:ext cx="0" cy="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7"/>
                  <p:cNvSpPr/>
                  <p:nvPr/>
                </p:nvSpPr>
                <p:spPr>
                  <a:xfrm>
                    <a:off x="6012720" y="3380040"/>
                    <a:ext cx="0" cy="1131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8"/>
                  <p:cNvSpPr/>
                  <p:nvPr/>
                </p:nvSpPr>
                <p:spPr>
                  <a:xfrm>
                    <a:off x="6031080" y="3380040"/>
                    <a:ext cx="1115280" cy="443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Text Box 26"/>
                  <p:cNvSpPr/>
                  <p:nvPr/>
                </p:nvSpPr>
                <p:spPr>
                  <a:xfrm>
                    <a:off x="5701320" y="3084480"/>
                    <a:ext cx="480600" cy="53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91" name="Text Box 5"/>
          <p:cNvSpPr/>
          <p:nvPr/>
        </p:nvSpPr>
        <p:spPr>
          <a:xfrm>
            <a:off x="826920" y="189000"/>
            <a:ext cx="42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9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平行四边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WordArt 4" descr=""/>
          <p:cNvPicPr/>
          <p:nvPr/>
        </p:nvPicPr>
        <p:blipFill>
          <a:blip r:embed="rId1"/>
          <a:stretch/>
        </p:blipFill>
        <p:spPr>
          <a:xfrm>
            <a:off x="2633760" y="2712960"/>
            <a:ext cx="461484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826920" y="189000"/>
            <a:ext cx="42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9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平行四边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826920" y="189000"/>
            <a:ext cx="42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9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平行四边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900000" y="131112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下面的图片中，有你熟悉的图形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"/>
          <p:cNvPicPr/>
          <p:nvPr/>
        </p:nvPicPr>
        <p:blipFill>
          <a:blip r:embed="rId1"/>
          <a:stretch/>
        </p:blipFill>
        <p:spPr>
          <a:xfrm>
            <a:off x="5651640" y="1895400"/>
            <a:ext cx="1955520" cy="132264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5"/>
          <p:cNvSpPr/>
          <p:nvPr/>
        </p:nvSpPr>
        <p:spPr>
          <a:xfrm>
            <a:off x="395280" y="7081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块一、认识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2"/>
          <a:stretch/>
        </p:blipFill>
        <p:spPr>
          <a:xfrm>
            <a:off x="1536840" y="2133720"/>
            <a:ext cx="2550960" cy="11826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" descr=""/>
          <p:cNvPicPr/>
          <p:nvPr/>
        </p:nvPicPr>
        <p:blipFill>
          <a:blip r:embed="rId3"/>
          <a:stretch/>
        </p:blipFill>
        <p:spPr>
          <a:xfrm>
            <a:off x="1300320" y="3933720"/>
            <a:ext cx="2944800" cy="1897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"/>
          <p:cNvPicPr/>
          <p:nvPr/>
        </p:nvPicPr>
        <p:blipFill>
          <a:blip r:embed="rId4"/>
          <a:stretch/>
        </p:blipFill>
        <p:spPr>
          <a:xfrm>
            <a:off x="4898880" y="4076640"/>
            <a:ext cx="3532320" cy="1687680"/>
          </a:xfrm>
          <a:prstGeom prst="rect">
            <a:avLst/>
          </a:prstGeom>
          <a:ln w="0">
            <a:noFill/>
          </a:ln>
        </p:spPr>
      </p:pic>
      <p:sp>
        <p:nvSpPr>
          <p:cNvPr id="52" name="平行四边形 3"/>
          <p:cNvSpPr/>
          <p:nvPr/>
        </p:nvSpPr>
        <p:spPr>
          <a:xfrm rot="6907200">
            <a:off x="5681160" y="2373120"/>
            <a:ext cx="952560" cy="473040"/>
          </a:xfrm>
          <a:prstGeom prst="parallelogram">
            <a:avLst>
              <a:gd name="adj" fmla="val 76222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4"/>
          <p:cNvSpPr/>
          <p:nvPr/>
        </p:nvSpPr>
        <p:spPr>
          <a:xfrm>
            <a:off x="1557360" y="2182680"/>
            <a:ext cx="2438280" cy="1084320"/>
          </a:xfrm>
          <a:prstGeom prst="parallelogram">
            <a:avLst>
              <a:gd name="adj" fmla="val 75591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1"/>
          <p:cNvGrpSpPr/>
          <p:nvPr/>
        </p:nvGrpSpPr>
        <p:grpSpPr>
          <a:xfrm>
            <a:off x="2268360" y="4447800"/>
            <a:ext cx="1598400" cy="1213200"/>
            <a:chOff x="2268360" y="4447800"/>
            <a:chExt cx="1598400" cy="1213200"/>
          </a:xfrm>
        </p:grpSpPr>
        <p:sp>
          <p:nvSpPr>
            <p:cNvPr id="55" name="直接连接符 7"/>
            <p:cNvSpPr/>
            <p:nvPr/>
          </p:nvSpPr>
          <p:spPr>
            <a:xfrm>
              <a:off x="2268360" y="4449600"/>
              <a:ext cx="804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0"/>
            <p:cNvSpPr/>
            <p:nvPr/>
          </p:nvSpPr>
          <p:spPr>
            <a:xfrm flipH="1" flipV="1">
              <a:off x="3074400" y="4449240"/>
              <a:ext cx="792360" cy="121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18"/>
            <p:cNvSpPr/>
            <p:nvPr/>
          </p:nvSpPr>
          <p:spPr>
            <a:xfrm flipH="1" flipV="1">
              <a:off x="2285280" y="4447800"/>
              <a:ext cx="792360" cy="121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9"/>
            <p:cNvSpPr/>
            <p:nvPr/>
          </p:nvSpPr>
          <p:spPr>
            <a:xfrm>
              <a:off x="3046320" y="5661000"/>
              <a:ext cx="804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0"/>
          <p:cNvGrpSpPr/>
          <p:nvPr/>
        </p:nvGrpSpPr>
        <p:grpSpPr>
          <a:xfrm>
            <a:off x="5911920" y="4723920"/>
            <a:ext cx="1477800" cy="768600"/>
            <a:chOff x="5911920" y="4723920"/>
            <a:chExt cx="1477800" cy="768600"/>
          </a:xfrm>
        </p:grpSpPr>
        <p:sp>
          <p:nvSpPr>
            <p:cNvPr id="60" name="直接连接符 14"/>
            <p:cNvSpPr/>
            <p:nvPr/>
          </p:nvSpPr>
          <p:spPr>
            <a:xfrm>
              <a:off x="6286320" y="4738320"/>
              <a:ext cx="1103400" cy="23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6"/>
            <p:cNvSpPr/>
            <p:nvPr/>
          </p:nvSpPr>
          <p:spPr>
            <a:xfrm flipV="1">
              <a:off x="5962680" y="4723920"/>
              <a:ext cx="380880" cy="50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26"/>
            <p:cNvSpPr/>
            <p:nvPr/>
          </p:nvSpPr>
          <p:spPr>
            <a:xfrm flipV="1">
              <a:off x="6969240" y="4987440"/>
              <a:ext cx="380880" cy="50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28"/>
            <p:cNvSpPr/>
            <p:nvPr/>
          </p:nvSpPr>
          <p:spPr>
            <a:xfrm>
              <a:off x="5911920" y="5249880"/>
              <a:ext cx="1103400" cy="23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文本框 30"/>
          <p:cNvSpPr/>
          <p:nvPr/>
        </p:nvSpPr>
        <p:spPr>
          <a:xfrm>
            <a:off x="900000" y="594036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请你指出你熟悉的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0"/>
          <p:cNvSpPr/>
          <p:nvPr/>
        </p:nvSpPr>
        <p:spPr>
          <a:xfrm>
            <a:off x="755640" y="14590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定义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组对边分别平行的四边形叫做平行四边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20720" y="24616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作“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读作“平行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762120" y="496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块一、认识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2771640" y="3252960"/>
            <a:ext cx="3132000" cy="1974240"/>
            <a:chOff x="2771640" y="3252960"/>
            <a:chExt cx="3132000" cy="1974240"/>
          </a:xfrm>
        </p:grpSpPr>
        <p:sp>
          <p:nvSpPr>
            <p:cNvPr id="69" name="AutoShape 5"/>
            <p:cNvSpPr/>
            <p:nvPr/>
          </p:nvSpPr>
          <p:spPr>
            <a:xfrm>
              <a:off x="3092040" y="3769560"/>
              <a:ext cx="2178000" cy="877680"/>
            </a:xfrm>
            <a:prstGeom prst="parallelogram">
              <a:avLst>
                <a:gd name="adj" fmla="val 6203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2771640" y="4526640"/>
              <a:ext cx="6530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>
              <a:off x="3438000" y="3252960"/>
              <a:ext cx="65340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5250600" y="3340080"/>
              <a:ext cx="6530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4440960" y="4568760"/>
              <a:ext cx="6530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826920" y="189000"/>
            <a:ext cx="42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9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平行四边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"/>
          <p:cNvSpPr/>
          <p:nvPr/>
        </p:nvSpPr>
        <p:spPr>
          <a:xfrm>
            <a:off x="714240" y="121140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符号语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809640" y="2212920"/>
            <a:ext cx="48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∥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∥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边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5508720" y="2011320"/>
            <a:ext cx="3166560" cy="2066760"/>
            <a:chOff x="5508720" y="2011320"/>
            <a:chExt cx="3166560" cy="2066760"/>
          </a:xfrm>
        </p:grpSpPr>
        <p:sp>
          <p:nvSpPr>
            <p:cNvPr id="78" name="AutoShape 5"/>
            <p:cNvSpPr/>
            <p:nvPr/>
          </p:nvSpPr>
          <p:spPr>
            <a:xfrm>
              <a:off x="5832720" y="2552040"/>
              <a:ext cx="2202120" cy="919080"/>
            </a:xfrm>
            <a:prstGeom prst="parallelogram">
              <a:avLst>
                <a:gd name="adj" fmla="val 599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5508720" y="3344400"/>
              <a:ext cx="66024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7"/>
            <p:cNvSpPr/>
            <p:nvPr/>
          </p:nvSpPr>
          <p:spPr>
            <a:xfrm>
              <a:off x="6182280" y="2011320"/>
              <a:ext cx="66060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8"/>
            <p:cNvSpPr/>
            <p:nvPr/>
          </p:nvSpPr>
          <p:spPr>
            <a:xfrm>
              <a:off x="8015040" y="2102760"/>
              <a:ext cx="66024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7196760" y="3388680"/>
              <a:ext cx="660240" cy="6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1"/>
          <p:cNvSpPr/>
          <p:nvPr/>
        </p:nvSpPr>
        <p:spPr>
          <a:xfrm>
            <a:off x="826920" y="98100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练习：如图，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在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F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各边上，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图中有哪些平行四边形？请指出来并用字母表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4861080" y="2424240"/>
            <a:ext cx="3240000" cy="2231640"/>
            <a:chOff x="4861080" y="2424240"/>
            <a:chExt cx="3240000" cy="2231640"/>
          </a:xfrm>
        </p:grpSpPr>
        <p:grpSp>
          <p:nvGrpSpPr>
            <p:cNvPr id="85" name="Group 8"/>
            <p:cNvGrpSpPr/>
            <p:nvPr/>
          </p:nvGrpSpPr>
          <p:grpSpPr>
            <a:xfrm>
              <a:off x="5237280" y="2764440"/>
              <a:ext cx="2403720" cy="1556640"/>
              <a:chOff x="5237280" y="2764440"/>
              <a:chExt cx="2403720" cy="1556640"/>
            </a:xfrm>
          </p:grpSpPr>
          <p:sp>
            <p:nvSpPr>
              <p:cNvPr id="86" name="AutoShape 9"/>
              <p:cNvSpPr/>
              <p:nvPr/>
            </p:nvSpPr>
            <p:spPr>
              <a:xfrm rot="10800000">
                <a:off x="5237280" y="2764440"/>
                <a:ext cx="2403720" cy="1556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10"/>
              <p:cNvSpPr/>
              <p:nvPr/>
            </p:nvSpPr>
            <p:spPr>
              <a:xfrm>
                <a:off x="5946120" y="2764440"/>
                <a:ext cx="1008000" cy="934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11"/>
            <p:cNvSpPr/>
            <p:nvPr/>
          </p:nvSpPr>
          <p:spPr>
            <a:xfrm>
              <a:off x="6311160" y="245412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2"/>
            <p:cNvSpPr/>
            <p:nvPr/>
          </p:nvSpPr>
          <p:spPr>
            <a:xfrm>
              <a:off x="5581080" y="350640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3"/>
            <p:cNvSpPr/>
            <p:nvPr/>
          </p:nvSpPr>
          <p:spPr>
            <a:xfrm>
              <a:off x="6866280" y="354348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>
              <a:off x="6411960" y="418932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5"/>
            <p:cNvSpPr/>
            <p:nvPr/>
          </p:nvSpPr>
          <p:spPr>
            <a:xfrm>
              <a:off x="7635960" y="2424240"/>
              <a:ext cx="46512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6"/>
            <p:cNvSpPr/>
            <p:nvPr/>
          </p:nvSpPr>
          <p:spPr>
            <a:xfrm>
              <a:off x="4861080" y="2609640"/>
              <a:ext cx="4651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99400" y="134244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操作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-714240" y="27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53560" y="1773000"/>
            <a:ext cx="78692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描出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及其对角线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角线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中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用大头针钉在点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将透明纸上的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旋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189000"/>
            <a:ext cx="42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9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平行四边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" descr=""/>
          <p:cNvPicPr/>
          <p:nvPr/>
        </p:nvPicPr>
        <p:blipFill>
          <a:blip r:embed="rId1"/>
          <a:stretch/>
        </p:blipFill>
        <p:spPr>
          <a:xfrm>
            <a:off x="1979640" y="3967200"/>
            <a:ext cx="4057560" cy="19051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"/>
          <p:cNvSpPr/>
          <p:nvPr/>
        </p:nvSpPr>
        <p:spPr>
          <a:xfrm>
            <a:off x="324000" y="765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块二、探究平行四边形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476360" y="907920"/>
            <a:ext cx="5522760" cy="3407040"/>
            <a:chOff x="1476360" y="907920"/>
            <a:chExt cx="5522760" cy="3407040"/>
          </a:xfrm>
        </p:grpSpPr>
        <p:sp>
          <p:nvSpPr>
            <p:cNvPr id="102" name="Text Box 3"/>
            <p:cNvSpPr/>
            <p:nvPr/>
          </p:nvSpPr>
          <p:spPr>
            <a:xfrm>
              <a:off x="3925800" y="2492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90000"/>
                  </a:solidFill>
                  <a:latin typeface="Arial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4"/>
            <p:cNvGrpSpPr/>
            <p:nvPr/>
          </p:nvGrpSpPr>
          <p:grpSpPr>
            <a:xfrm>
              <a:off x="1476360" y="907920"/>
              <a:ext cx="5522760" cy="3407040"/>
              <a:chOff x="1476360" y="907920"/>
              <a:chExt cx="5522760" cy="3407040"/>
            </a:xfrm>
          </p:grpSpPr>
          <p:sp>
            <p:nvSpPr>
              <p:cNvPr id="104" name="AutoShape 5"/>
              <p:cNvSpPr/>
              <p:nvPr/>
            </p:nvSpPr>
            <p:spPr>
              <a:xfrm>
                <a:off x="1692360" y="1595160"/>
                <a:ext cx="4895640" cy="2160720"/>
              </a:xfrm>
              <a:prstGeom prst="parallelogram">
                <a:avLst>
                  <a:gd name="adj" fmla="val 56644"/>
                </a:avLst>
              </a:prstGeom>
              <a:noFill/>
              <a:ln w="63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6"/>
              <p:cNvSpPr/>
              <p:nvPr/>
            </p:nvSpPr>
            <p:spPr>
              <a:xfrm>
                <a:off x="2916360" y="1595160"/>
                <a:ext cx="2447640" cy="2160720"/>
              </a:xfrm>
              <a:prstGeom prst="line">
                <a:avLst/>
              </a:prstGeom>
              <a:ln w="50760">
                <a:solidFill>
                  <a:srgbClr val="8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"/>
              <p:cNvSpPr/>
              <p:nvPr/>
            </p:nvSpPr>
            <p:spPr>
              <a:xfrm flipH="1">
                <a:off x="1692360" y="1595160"/>
                <a:ext cx="4897440" cy="2159280"/>
              </a:xfrm>
              <a:prstGeom prst="line">
                <a:avLst/>
              </a:prstGeom>
              <a:ln w="50760">
                <a:solidFill>
                  <a:srgbClr val="8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8"/>
              <p:cNvSpPr/>
              <p:nvPr/>
            </p:nvSpPr>
            <p:spPr>
              <a:xfrm>
                <a:off x="2773440" y="907920"/>
                <a:ext cx="718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9"/>
              <p:cNvSpPr/>
              <p:nvPr/>
            </p:nvSpPr>
            <p:spPr>
              <a:xfrm>
                <a:off x="6280200" y="947520"/>
                <a:ext cx="718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10"/>
              <p:cNvSpPr/>
              <p:nvPr/>
            </p:nvSpPr>
            <p:spPr>
              <a:xfrm>
                <a:off x="3963960" y="1955520"/>
                <a:ext cx="71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1"/>
              <p:cNvSpPr/>
              <p:nvPr/>
            </p:nvSpPr>
            <p:spPr>
              <a:xfrm>
                <a:off x="5022720" y="3606840"/>
                <a:ext cx="71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12"/>
              <p:cNvSpPr/>
              <p:nvPr/>
            </p:nvSpPr>
            <p:spPr>
              <a:xfrm>
                <a:off x="1476360" y="3611520"/>
                <a:ext cx="71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Line 13"/>
          <p:cNvSpPr/>
          <p:nvPr/>
        </p:nvSpPr>
        <p:spPr>
          <a:xfrm>
            <a:off x="2905200" y="1577880"/>
            <a:ext cx="2448000" cy="21607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H="1">
            <a:off x="1690560" y="1587600"/>
            <a:ext cx="4897440" cy="2158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1692360" y="1555920"/>
            <a:ext cx="4895640" cy="2162160"/>
          </a:xfrm>
          <a:prstGeom prst="parallelogram">
            <a:avLst>
              <a:gd name="adj" fmla="val 56606"/>
            </a:avLst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1476360" y="949320"/>
            <a:ext cx="5462640" cy="3367440"/>
            <a:chOff x="1476360" y="949320"/>
            <a:chExt cx="5462640" cy="3367440"/>
          </a:xfrm>
        </p:grpSpPr>
        <p:sp>
          <p:nvSpPr>
            <p:cNvPr id="116" name="Text Box 17"/>
            <p:cNvSpPr/>
            <p:nvPr/>
          </p:nvSpPr>
          <p:spPr>
            <a:xfrm>
              <a:off x="6289560" y="94932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1476360" y="361332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9"/>
          <p:cNvGrpSpPr/>
          <p:nvPr/>
        </p:nvGrpSpPr>
        <p:grpSpPr>
          <a:xfrm>
            <a:off x="2782800" y="912960"/>
            <a:ext cx="2890800" cy="3398760"/>
            <a:chOff x="2782800" y="912960"/>
            <a:chExt cx="2890800" cy="3398760"/>
          </a:xfrm>
        </p:grpSpPr>
        <p:sp>
          <p:nvSpPr>
            <p:cNvPr id="119" name="Text Box 20"/>
            <p:cNvSpPr/>
            <p:nvPr/>
          </p:nvSpPr>
          <p:spPr>
            <a:xfrm>
              <a:off x="3965400" y="197316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1"/>
            <p:cNvSpPr/>
            <p:nvPr/>
          </p:nvSpPr>
          <p:spPr>
            <a:xfrm>
              <a:off x="5024520" y="360828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2"/>
            <p:cNvSpPr/>
            <p:nvPr/>
          </p:nvSpPr>
          <p:spPr>
            <a:xfrm>
              <a:off x="2782800" y="91296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WordArt 24"/>
          <p:cNvSpPr txBox="1"/>
          <p:nvPr/>
        </p:nvSpPr>
        <p:spPr>
          <a:xfrm>
            <a:off x="309600" y="458640"/>
            <a:ext cx="21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看一看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457200" y="468936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猜想：平行四边形是中心对称图形，对角线的交点是它的对称中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3160" y="554148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如何证明平行四边形是中心对称图形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730080" y="4767480"/>
            <a:ext cx="81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行四边形的对边相等、对角相等、对角线互相平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26920" y="189000"/>
            <a:ext cx="42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9.3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平行四边形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11383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思考：从证实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中心对称图形的过程中，你发现平行四边形还有哪些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2484360" y="2050920"/>
          <a:ext cx="28195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050920"/>
                    <a:ext cx="28195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文本框 5"/>
          <p:cNvSpPr/>
          <p:nvPr/>
        </p:nvSpPr>
        <p:spPr>
          <a:xfrm>
            <a:off x="611280" y="56610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请用全等的方式来证明你的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3040" y="663120"/>
            <a:ext cx="31068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符号语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2660760" y="141300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平行四边形的对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1216080" y="1982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四边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平行四边形                    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B=CD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D=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2660760" y="302256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平行四边形的对角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1192320" y="36068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四边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平行四边形                    ∴∠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BC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DC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∠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AD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3327480" y="447192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平行四边形两条对角线互相平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1152360" y="5097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四边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平行四边形                    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OA=OC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OB=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508720" y="1766880"/>
          <a:ext cx="2819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766880"/>
                    <a:ext cx="2819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文本框 8"/>
          <p:cNvSpPr/>
          <p:nvPr/>
        </p:nvSpPr>
        <p:spPr>
          <a:xfrm>
            <a:off x="585720" y="8892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块二、探究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1187280" y="2000160"/>
            <a:ext cx="4241880" cy="7812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1206360" y="3606840"/>
            <a:ext cx="4229280" cy="8301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1206360" y="5046840"/>
            <a:ext cx="4229280" cy="83016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/>
  <dc:description/>
  <dc:language>en-US</dc:language>
  <cp:lastModifiedBy>jonah_w@163.com</cp:lastModifiedBy>
  <dcterms:modified xsi:type="dcterms:W3CDTF">2019-03-07T03:21:39Z</dcterms:modified>
  <cp:revision>140</cp:revision>
  <dc:subject/>
  <dc:title>PowerPoint 演示文稿</dc:title>
</cp:coreProperties>
</file>